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4004-65F5-47A2-B35C-9A1F7A3C0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any materials necessary to implement the lesson or prior knowledge by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quad is your in house “IT” helpde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A511-74DF-4062-856B-62CD482C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440D-60AB-4CC6-95A2-AFC84833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103E-E3A9-4805-8C2D-412EC4D1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2AD8-BC27-40B5-892A-9CE2322E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A7F8-E46C-4D2E-A300-D727ABC5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7453-F606-4D25-9757-CEDF2912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D190-3E26-43ED-BB41-128707AF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C3A4-C95B-4EF6-A25F-AF6B2599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147F-EDC9-4EDC-84E7-F022419A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33C0-6A8A-432E-92C7-047E641D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A9B9-A6F6-4AF2-93C8-FC335D02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03E1-2090-42AA-894B-41D354C9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37B5-196D-426B-BFE0-27757ED30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eacher Readiness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361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Launching the 1:1 environ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4876920"/>
            <a:ext cx="1436760" cy="1752480"/>
          </a:xfrm>
          <a:prstGeom prst="rect">
            <a:avLst/>
          </a:prstGeom>
          <a:ln w="0">
            <a:noFill/>
          </a:ln>
        </p:spPr>
      </p:pic>
      <p:pic>
        <p:nvPicPr>
          <p:cNvPr id="51" name="CIS339_LOGO" descr=""/>
          <p:cNvPicPr/>
          <p:nvPr/>
        </p:nvPicPr>
        <p:blipFill>
          <a:blip r:embed="rId2"/>
          <a:stretch/>
        </p:blipFill>
        <p:spPr>
          <a:xfrm>
            <a:off x="6781680" y="5029200"/>
            <a:ext cx="21337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286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:1 Management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ssroom Management: Irving High School Laptop Initiative. </a:t>
            </a:r>
            <a:r>
              <a:rPr b="0" lang="en-US" sz="2800" spc="-1" strike="noStrike" u="sng">
                <a:solidFill>
                  <a:srgbClr val="ff5050"/>
                </a:solidFill>
                <a:uFillTx/>
                <a:latin typeface="Verdana"/>
              </a:rPr>
              <a:t>http://www.irvingisd.net/one2one/classroom_management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eat Maine Laptop Experiment </a:t>
            </a:r>
            <a:r>
              <a:rPr b="0" lang="en-US" sz="2800" spc="-1" strike="noStrike" u="sng">
                <a:solidFill>
                  <a:srgbClr val="ff5050"/>
                </a:solidFill>
                <a:uFillTx/>
                <a:latin typeface="Verdana"/>
              </a:rPr>
              <a:t>http://www.middleweb.com/mw/msdiaries/diaries02-03.html#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ptop Learning Challenge </a:t>
            </a:r>
            <a:r>
              <a:rPr b="0" lang="en-US" sz="2800" spc="-1" strike="noStrike" u="sng">
                <a:solidFill>
                  <a:srgbClr val="ff5050"/>
                </a:solidFill>
                <a:uFillTx/>
                <a:latin typeface="Verdana"/>
              </a:rPr>
              <a:t>http://www.nsta.org/programs/laptop/teach/rationale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tting Results with Laptops </a:t>
            </a:r>
            <a:r>
              <a:rPr b="0" lang="en-US" sz="2400" spc="-1" strike="noStrike" u="sng">
                <a:solidFill>
                  <a:srgbClr val="ff5050"/>
                </a:solidFill>
                <a:uFillTx/>
                <a:latin typeface="Verdana"/>
              </a:rPr>
              <a:t>http://www.techlearning.com/story/showArticle.jhtml?articleID=499011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le 1 to 1 Learning Initiatives: SCHAUM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f3f62"/>
                </a:solidFill>
                <a:uFillTx/>
                <a:latin typeface="Verdana"/>
              </a:rPr>
              <a:t> </a:t>
            </a:r>
            <a:r>
              <a:rPr b="0" lang="en-US" sz="2400" spc="-1" strike="noStrike">
                <a:solidFill>
                  <a:srgbClr val="3f3f62"/>
                </a:solidFill>
                <a:latin typeface="Verdana"/>
              </a:rPr>
              <a:t> </a:t>
            </a:r>
            <a:r>
              <a:rPr b="0" lang="en-US" sz="2400" spc="-1" strike="noStrike" u="sng">
                <a:solidFill>
                  <a:srgbClr val="ff5050"/>
                </a:solidFill>
                <a:uFillTx/>
                <a:latin typeface="Verdana"/>
              </a:rPr>
              <a:t>http://ali.apple.com/ali_sites/ali/exhibits/1001456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gend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tudent Laptop Contr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ptop Rules and Consequences-School Wide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eacher Readiness Check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roubleshooting Technology “Issues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Depot- Who, What, When, Where, Why, and H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Blocking Inappropriate Websi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ummer Professional Development Options- What’s Nex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udent Laptop Contrac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Comic Sans MS"/>
              </a:rPr>
              <a:t>Two Types of Rules:</a:t>
            </a:r>
            <a:r>
              <a:rPr b="0" lang="en-US" sz="3200" spc="-1" strike="noStrike" u="sng">
                <a:solidFill>
                  <a:srgbClr val="ff505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ring for a Lap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ing a Laptop Responsibly in  Your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ing posters of the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cher Readiness Checklis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1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ssroom Prepared for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ating Chart, Smart Board, C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udent Technology Contracts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ent Laptop Licens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ckup Copy of Laptop Assignment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ust in case name tags peel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n for Laptop Distribution and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 Slid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quad Identified and Trained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one team for each car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ptop 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t 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stribution and Collection Tip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1430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t Monitors go to the carts. All wires should already be in the right slo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For distribution make sure laptops are charg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signal they are ready to have their laptop distributed/picked up by iSquader (eg. reading quietl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top monitors collect/distribute laptops while Cart Monitors plug them in caref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tudents continue to work quietly until all laptops are accounted f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: After monitors sign off, count the laptops yourself and lock each cart.  Lock carts together at the end of the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You are accountable for your keys, so do not let students use your keys without your direct supervis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oubleshooting Technology “Issue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3 Quick Fixes in the Classro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Battery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ce Quit from the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e+Option+E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art the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e+Ctrl+Power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e Depot </a:t>
            </a:r>
            <a:br>
              <a:rPr sz="28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ho, What, When, Where, Why, and H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09920" y="323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308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Who: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Sarah Ramirez is the Depot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: The place for teachers and students to swamp out laptops when experiencing technology difficul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When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: Open During the School Da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if it is closed for some reason- there will be a sign on the doo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Wher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: Rm 210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Why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: To prevent “breaks” in 1:1 learning- seamless integ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: Teacher or iSquad member brings computer to Depot with a completed “in take” form.  Sarah completes paperwork and issues “loaner.”  Be sure to make note of the switch in your backup assignment li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locking Inappropriate Webs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ick No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ddition to administering the consequence for visiting inappropriate sites, we have the ability to “block” the site at our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notice a student on a inappropriate site, submit a “block” request form to Sarah Ramirez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rah will review the site, get administrative signoff, and submit the request to CENT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ummer Professional Development Option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What’s Nex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entral is providing a full scale summer professional development program for iTeachiLearn educato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eachers can take “Get Going with iTiL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echnology Integration classes on information literacy, literacy, math, science, and social studies will also be offered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eachers can take classes on Word and PowerPoi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ee memo for schedule and registration information for this excellent summer opport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01:05:50Z</dcterms:created>
  <dc:creator>lguastaferro</dc:creator>
  <dc:description/>
  <dc:language>en-US</dc:language>
  <cp:lastModifiedBy>NYCDOE</cp:lastModifiedBy>
  <dcterms:modified xsi:type="dcterms:W3CDTF">2006-05-02T03:03:22Z</dcterms:modified>
  <cp:revision>31</cp:revision>
  <dc:subject/>
  <dc:title>Lesson Title Here</dc:title>
</cp:coreProperties>
</file>